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BB2-6BA3-4B28-9CD1-63D461BE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7A7-0B95-405E-B8F2-7DE93F9D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C0A-F1B6-442E-B54E-79C8C727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E70-14FB-4634-94F0-0DA6E8C8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ADA-63B9-4514-B031-19C22585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BD9-06D3-4E4E-9D1E-055086AB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3C4-72C5-4909-96C5-ED9EE7CF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679-FBB6-4F12-BB52-9D83874D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FCA-059E-409C-9243-571631E4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505-9CF0-4BF0-ABBB-B7A6A6D1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A23-C3AA-4E6D-B8EF-02E16EE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011-768D-4F24-BF08-2B4BC4A1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6765-6CEF-4254-A721-AE68F73EB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</a:rPr>
              <a:t>Probability &amp; Genetic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67080" y="1268280"/>
            <a:ext cx="91440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he likelihood a particular event will occ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in fli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ces of heads?  Tai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co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ces of two heads?  Two tails? Heads &amp; tail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FM University"/>
              </a:rPr>
              <a:t>Rule of Multi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”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 events do not affect future prob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NDEPEND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674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914400" cy="87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11-2 Probability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 Punnett Squ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nett squares can be used to show th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ossible outco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 trait  according to the traits of the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show th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Text Placeholder 2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4038840" cy="268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e x 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quares represent possible offsp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offspring gets one gene from “dad” (from the top) and one gene from “Mom” (from the si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% of the offspring will have free earlob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% will have attached ea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% will be heterozygous for the tra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400800" y="2743200"/>
          <a:ext cx="2514600" cy="251460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858000" y="2133720"/>
            <a:ext cx="533520" cy="5331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4343400"/>
            <a:ext cx="53316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2971800"/>
            <a:ext cx="53316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7924680" y="2133720"/>
            <a:ext cx="533520" cy="5331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467480" y="5410080"/>
            <a:ext cx="1676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ying to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480" y="5943600"/>
          <a:ext cx="1371600" cy="4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943600"/>
                    <a:ext cx="13716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696080" y="5943600"/>
          <a:ext cx="6066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5943600"/>
                    <a:ext cx="606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438280" y="1905120"/>
          <a:ext cx="4190760" cy="4114440"/>
        </p:xfrm>
        <a:graphic>
          <a:graphicData uri="http://schemas.openxmlformats.org/drawingml/2006/table">
            <a:tbl>
              <a:tblPr/>
              <a:tblGrid>
                <a:gridCol w="2226240"/>
                <a:gridCol w="1964520"/>
              </a:tblGrid>
              <a:tr h="20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0:41:09Z</dcterms:created>
  <dc:creator>Joanne Lilliendahl</dc:creator>
  <dc:description/>
  <dc:language>en-US</dc:language>
  <cp:lastModifiedBy>udsd</cp:lastModifiedBy>
  <dcterms:modified xsi:type="dcterms:W3CDTF">2010-04-19T19:57:00Z</dcterms:modified>
  <cp:revision>17</cp:revision>
  <dc:subject/>
  <dc:title>GENETICS</dc:title>
</cp:coreProperties>
</file>